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212-01E9-4C91-A332-9A3E61D8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D94-3FAC-4B83-95B6-F2F2F82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C6F-87C5-409E-9C08-8B17FBF0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95B-0087-459A-B000-CDD251D5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CC2-5268-45ED-AFC4-FE46EA2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D96-5A19-4E1D-8A4E-207B538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AED-B9F9-48C5-B140-4BF5CC8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9FB-7A4D-4391-813B-4D5D14CC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170-88BF-4532-B4CC-AC63FA76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E36-2703-49DD-80D3-488EA60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1E1-02EF-43B8-84A5-7F291221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251-4EF1-4B2D-BF7E-20AC398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C52-639A-4118-879A-773D744B7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-MAIL=ELECTRONIC MAIL WHICH ALLOWS INDIVIDUALS WITH AN ACCOUNT TO SEND MESSAGES TO ANOTHER PERSON WITH AN E-MAIL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RC=INTERNET RELAY CHAT WAS DEVELOPED IN 1988 BY JARKKO OIKARINEN AND ALLOWS INSTANT ONLINE COMMUNICATING WITH SOMEONE ELSE WHO IS ALSO ONLINE BY TYPING MESSAGES BACK AND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BS=BULLETIN BOARD SERVICE ALLOWS A USER TO PARTICIPATE IN A DISCUSSIO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HTTP=HYPERTEXT TRANSFER PROTOCOL IS USED FOR HANDLING THE TRANSMISSION OF PAGES BETWEEN A WEB SERVER AND A WEB 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FTP=FILE TRANSFER PROTOCOL IS USED TO RAPIDLY TRANSF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ELNET=A PROGRAM USED O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HER=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=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=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TRANET=AN EXTENDED INTRANET THAT PROVIDES VARIOUS LEVEL OF ACCESS TO AUTHORIZED MEMBERS OF THE PUB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PROFILING=A MARKETING TECHNIQUE THAT COLLECTS ONLINE DATA ABOUT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OKIES=SMALL FILES THAT CONTAIN INFORMATION ABOUT THE WEB SITES AN INDIVIDUAL HAS VIS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ENET=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NDWIDTH=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ENT=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THERNET=A WIDELY USED PROTOCOL FOR LANS THAT USES A BUS OR STAR TOPOLOG AND CONNECTS THE NETWORK DEVICES BY TWISTED-PAIR WIRING, COAXIAL CABLE, OR  FIBER OPTIC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IQUETTE=THE EIQUETTE THAT SHOULD BE FOLLOWED WHEN USING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OCOL=A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=THE LOGICAL ARRANGEMENT OF THE NODES ON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S=A TYPE OF NETWORK THAT DOES NOT REQUIRE THE USE OF C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=A CIRCUIT BOARD THAT GOES INTO THE BASE UNIT OF A COMPUTER OR OTHER DEVICE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SP=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B SITE=A SERIES OF RELATED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44:22Z</dcterms:created>
  <dc:creator>765860</dc:creator>
  <dc:description/>
  <dc:language>en-US</dc:language>
  <cp:lastModifiedBy>765860</cp:lastModifiedBy>
  <dcterms:modified xsi:type="dcterms:W3CDTF">2009-04-17T15:36:45Z</dcterms:modified>
  <cp:revision>3</cp:revision>
  <dc:subject/>
  <dc:title>Slide 1</dc:title>
</cp:coreProperties>
</file>